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F55-8E7F-4B59-9938-DCFC3FC21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5F25-98D9-48EE-AE5B-B95DC06B4F98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2088-764C-4EBC-97B7-AE678F1B52BF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0B18-CF6B-4868-90D9-EAADE7301707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A8E9-4B83-43D2-8B5C-A4560F6C8D2E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3624-E54B-495D-8851-6DB1862CA713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4084-D089-4D19-824D-3A0A70F74767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82D4-229B-46D0-99EE-27ABDF02EC2D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BD64-18ED-4349-9066-D474733F7289}" type="slidenum">
              <a:rPr b="0" lang="en-US" sz="1200" spc="-1" strike="noStrike">
                <a:solidFill>
                  <a:srgbClr val="0066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243-8387-4859-89D8-3CBD106AB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24D7-EA95-4808-8322-5926C271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C3D-9397-47D4-8A23-67F45AD0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B3FC-35E7-45EB-ADEE-FF97A41D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449A-2879-42DA-BB65-1CBA56A19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B607-74AA-41AC-8171-E5A28189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54C8-B813-4D73-AB30-EE9054B4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1A00-625A-458D-B9DC-637F4AB2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1F1D-F0AC-482E-A5A9-12F24EF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50066-ABBA-477C-8840-52DE0980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A176E-EE39-4E20-A5A4-D8CE38AE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239-AFF3-4DD8-81BF-31B37129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6419-6639-47A8-89BD-2FFC4A6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754D4-5C36-4702-80A8-00491537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A651-0DB8-4C87-8581-E166BB75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99E7-D57D-4A9B-BB23-4486D38F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5A91-D20F-440D-98BA-90E8180A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B7FF1-55C6-439E-B594-A6E53276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7A045-3F1A-40AB-AECC-00E2FA8C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4A29E-8A4F-4F1E-B8FF-FA36BB3E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0EEBA-0DFB-4E33-A9EC-08B7BD8D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41287-B46C-42F5-9DC0-0209D3F7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354E-18AD-412C-B0EF-EA90D5E5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19652-AC69-4F45-9F10-3269A5D4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3EF57-8EF6-411B-9F2E-A96D4AA9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3CD6D-96F9-44BC-90D6-9117C74E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220B4-BA81-4953-BF33-0B567A21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51196-2537-4EBE-B084-2863C674C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D1DE6-25FC-4074-A1ED-934B62B4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1DC8E-9A7B-46D1-B127-13EEED88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13448-8A23-4C7B-8F35-FA2F1794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08A1A-DEFC-43B1-853B-4B760E4C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00634-E3A5-432E-903A-7C48F884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8608-4FD1-473D-BAD7-242B370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32C5-3CD4-4834-A8B8-D7512C17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FFE4B-394F-46F0-BBBE-193530E6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77DD7-D35A-4B23-A0A5-9CC9167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7975-152E-4665-A28E-C15D86D6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BC41-DFDF-4DC8-96E4-77BFE26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AD9FE-AE52-4923-9847-BFDBAB7D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5EA6-2471-41B7-B664-31150B5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4F133-7B20-4043-9892-7082272D9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5FC46-E824-4D15-96D8-F6E566569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2EB-E7AC-4818-BB00-36EB22AF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3ED-FE0C-4771-AF0B-3416EFE2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3C69-7F50-40D0-9BCF-6FEA91D6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298-5D3C-43DE-9014-2183C07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24E0-D0F7-420B-91F1-D7711AB4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4.wmf"/><Relationship Id="rId17" Type="http://schemas.openxmlformats.org/officeDocument/2006/relationships/image" Target="../media/image4.wmf"/><Relationship Id="rId18" Type="http://schemas.openxmlformats.org/officeDocument/2006/relationships/image" Target="../media/image4.wmf"/><Relationship Id="rId19" Type="http://schemas.openxmlformats.org/officeDocument/2006/relationships/image" Target="../media/image4.wmf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image" Target="../media/image4.wmf"/><Relationship Id="rId25" Type="http://schemas.openxmlformats.org/officeDocument/2006/relationships/image" Target="../media/image4.wmf"/><Relationship Id="rId26" Type="http://schemas.openxmlformats.org/officeDocument/2006/relationships/image" Target="../media/image4.wmf"/><Relationship Id="rId27" Type="http://schemas.openxmlformats.org/officeDocument/2006/relationships/image" Target="../media/image4.wmf"/><Relationship Id="rId28" Type="http://schemas.openxmlformats.org/officeDocument/2006/relationships/image" Target="../media/image4.wmf"/><Relationship Id="rId29" Type="http://schemas.openxmlformats.org/officeDocument/2006/relationships/image" Target="../media/image5.png"/><Relationship Id="rId30" Type="http://schemas.openxmlformats.org/officeDocument/2006/relationships/image" Target="../media/image5.png"/><Relationship Id="rId31" Type="http://schemas.openxmlformats.org/officeDocument/2006/relationships/image" Target="../media/image1.png"/><Relationship Id="rId32" Type="http://schemas.openxmlformats.org/officeDocument/2006/relationships/image" Target="../media/image2.png"/><Relationship Id="rId33" Type="http://schemas.openxmlformats.org/officeDocument/2006/relationships/image" Target="../media/image3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533-F788-4D2E-AC88-8F8FD52B969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FD3B-AF36-4C05-976A-995C498566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E59D-D82A-46B2-B5E6-8A5689547CA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0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1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1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1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1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1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2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3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3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5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6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3EA7-1488-4EC7-8209-548ED89DBBF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wre.com/ctfilter.GIF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Chapter 25</a:t>
            </a:r>
            <a:br>
              <a:rPr sz="4800"/>
            </a:b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Indoor Air Pollution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acteria and molds and mildews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sbesto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aldehyd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obacco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d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BFRs (Brominated Flame Retardants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o’s affected most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you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e ol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mmunosuppresse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ronic respiratory disease suffer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Sick building syndrom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9" name="Picture 5" descr="warum-krank"/>
          <p:cNvPicPr/>
          <p:nvPr/>
        </p:nvPicPr>
        <p:blipFill>
          <a:blip r:embed="rId1"/>
          <a:stretch/>
        </p:blipFill>
        <p:spPr>
          <a:xfrm>
            <a:off x="5943600" y="1219320"/>
            <a:ext cx="2706840" cy="33512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1295280" y="1554120"/>
            <a:ext cx="27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Caused by unhealthy indoor env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ontrolling the problem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ntilat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emove sour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se alternatives building materi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x heaters and other faulty devic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ean air filter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ducat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Educate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3" name="Picture 5" descr="no-smoking"/>
          <p:cNvPicPr/>
          <p:nvPr/>
        </p:nvPicPr>
        <p:blipFill>
          <a:blip r:embed="rId1"/>
          <a:stretch/>
        </p:blipFill>
        <p:spPr>
          <a:xfrm>
            <a:off x="4917960" y="1979640"/>
            <a:ext cx="3649680" cy="3774960"/>
          </a:xfrm>
          <a:prstGeom prst="rect">
            <a:avLst/>
          </a:prstGeom>
          <a:ln w="0">
            <a:noFill/>
          </a:ln>
        </p:spPr>
      </p:pic>
      <p:sp>
        <p:nvSpPr>
          <p:cNvPr id="344" name="Line 7"/>
          <p:cNvSpPr/>
          <p:nvPr/>
        </p:nvSpPr>
        <p:spPr>
          <a:xfrm>
            <a:off x="3352680" y="2362320"/>
            <a:ext cx="1143000" cy="533160"/>
          </a:xfrm>
          <a:prstGeom prst="line">
            <a:avLst/>
          </a:prstGeom>
          <a:ln w="9360">
            <a:solidFill>
              <a:srgbClr val="ecf53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Formaldehy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ealth Effec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533520" y="9144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rmaldehyd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419720" y="9144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obacco Smok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Rad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1" name="Picture 5" descr="Radon1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"/>
          <p:cNvSpPr/>
          <p:nvPr/>
        </p:nvSpPr>
        <p:spPr>
          <a:xfrm>
            <a:off x="2286000" y="310500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533520" y="2362320"/>
            <a:ext cx="1523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er exposure time leads to greater cancer risk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Picture 5" descr="radon risk bar chart"/>
          <p:cNvPicPr/>
          <p:nvPr/>
        </p:nvPicPr>
        <p:blipFill>
          <a:blip r:embed="rId1"/>
          <a:stretch/>
        </p:blipFill>
        <p:spPr>
          <a:xfrm>
            <a:off x="228600" y="1066680"/>
            <a:ext cx="7315200" cy="5334120"/>
          </a:xfrm>
          <a:prstGeom prst="rect">
            <a:avLst/>
          </a:prstGeom>
          <a:ln w="0">
            <a:noFill/>
          </a:ln>
        </p:spPr>
      </p:pic>
      <p:sp>
        <p:nvSpPr>
          <p:cNvPr id="326" name="TextBox 1"/>
          <p:cNvSpPr/>
          <p:nvPr/>
        </p:nvSpPr>
        <p:spPr>
          <a:xfrm>
            <a:off x="3886200" y="15238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Radon leads to more deaths than other risk factors and even worse synergistic effects if one is smoking </a:t>
            </a:r>
            <a:r>
              <a:rPr b="0" lang="en-US" sz="1800" spc="-1" strike="noStrike" u="sng">
                <a:solidFill>
                  <a:srgbClr val="006699"/>
                </a:solidFill>
                <a:uFillTx/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exposed to radon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BFRs (Brominated Flame Retardents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Why indoor pollutants so concentrated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ontaminated building materi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llutants get trapp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ir and heating units not maintaine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d cannot filter everything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31" name="Picture 5" descr="ctfil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371600"/>
            <a:ext cx="3352680" cy="2819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filters"/>
          <p:cNvPicPr/>
          <p:nvPr/>
        </p:nvPicPr>
        <p:blipFill>
          <a:blip r:embed="rId3"/>
          <a:stretch/>
        </p:blipFill>
        <p:spPr>
          <a:xfrm>
            <a:off x="4191120" y="434340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athways 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nter through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racks in walls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rough windows and doo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himney effec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Wind and pressure differentials in and outside build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22:47:30Z</dcterms:created>
  <dc:creator>tosborne</dc:creator>
  <dc:description/>
  <dc:language>en-US</dc:language>
  <cp:lastModifiedBy>infosys</cp:lastModifiedBy>
  <dcterms:modified xsi:type="dcterms:W3CDTF">2014-04-02T21:46:37Z</dcterms:modified>
  <cp:revision>15</cp:revision>
  <dc:subject/>
  <dc:title>Indoor Air Pollution</dc:title>
</cp:coreProperties>
</file>